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42F-2C7A-437E-8419-417B17F94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John Fogerty’s Centerfield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oles as Co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B97-F540-47F7-AE81-A1BD26EE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AD30-C02F-45C4-8C76-0E2C14FD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get one share one handou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6F1-5FB5-4789-A9C1-A90EF3FA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CA39-BE46-48B6-A239-4ECF7C88D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DC5A-950D-41E9-8666-511119F5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F161-5D57-4B70-8E11-8FD49F35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3040-8D91-45AF-ADAD-A24882866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8479-3640-4442-B226-AF12225132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7099-33CC-4468-9E64-4FEA6F156DB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E8B0-A518-462C-A964-7F36D40619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4322-BD8C-42EB-89A8-7DF7D6226F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75AE-6E07-4DBF-916E-2A410D8DDA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2590-802E-4516-98B7-F9C9CF13BD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2A02-6B18-4B44-8C25-383ADE30D6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5DCD-8E77-486E-B08E-CFB310C3B5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FF84-8F98-4ABD-BE22-E66CDD3CE6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30A4-8695-44DD-9232-95459A15F80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664B2-405E-4499-8B87-F3ACE8A36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92BB-9CEE-4F5F-A7E6-F12FFDAE28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B652C-2850-45BE-8EBF-3310EDF8BD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8E24E-04F6-4D5B-BEB5-2EB0A742A0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0ABF6-B5ED-4DA9-B3DA-36B2ADEE390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EE3FF-E621-4B1F-A7D7-F8B750FCC0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4D4B5-73AA-4D94-9B3E-CEDFE28CAB5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F455D-4FBC-4DAE-82FF-97BC1814E46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CD4BD-E50A-4E08-B13E-D67A4D798D8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B6EF5-46EC-4591-9653-6ED872E133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87165-7F3E-453B-82A0-7E9398CE499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220A8-93DF-4ECD-AE56-BB1EA18D9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5A64-6302-4EA2-B6DA-9C56DD78126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0525A-D528-4A51-ADEC-534D9FFE70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F6D2A-6AFF-45AD-8D62-94777E5E1F7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B3085-7D96-4890-8819-7EB7C4ACE33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71AC4-0B66-4047-83B7-C9272A1BB91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7946C-7D73-4211-905C-8019123A38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0C88D-DBC0-4925-86E8-FD4FE83D784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604DD-62B6-424C-85B7-0C4FA3161AF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A15E7-F9DE-4F36-ACDF-DB878BBB39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DBE9D-7872-4267-84D0-80690947874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AA408-9D63-4E78-93D1-27D8616CA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9FB4-B4C0-4316-A5C4-B5F62010FA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774D8-90AF-4D10-B1CC-3FD2C6C1A7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FD08A8-C777-463F-BE19-2424BC73B9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94BFA-065E-491E-BC54-70674A60DFB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20D2-B6B4-4090-B6C2-32E8649727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837D-FDFD-4F5A-A5E4-78A724CBA0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5941-35DA-42A1-80F3-8DEEC92671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5A23-FD3D-4207-9302-6696EEBE849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D49B-A851-44D1-9BE3-CA125E0293C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5330-F94E-4620-949A-A60B797E99B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E98C-5974-40C4-B4C3-DB3A54E644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1FDA-A1D5-48C2-B0D2-E5DC641C4E3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3F6B-A0D8-4EEF-906C-61B642F0BC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6D4D-20FF-475A-A4AE-690D52C1431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DF60-7545-4D80-8756-3273322E19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7A7B-8828-436F-9403-21B93F64016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8724-BE9F-434E-9F87-C1D26136CE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6040-7861-4A4C-BC36-039FA15A50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1471-9AF0-4DD2-9A49-DF22B10941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7970-EAC0-41E4-9567-F6594AAE48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528C-1B0D-4CD6-8317-6869DF5511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D7C0-0752-4F0B-B9F1-D6245C924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434B-D10A-4523-88C2-F7D95033E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2B70-F57A-4B38-829D-9C28A64EC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5DAC-54EC-4287-A796-E7F6847452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F8C2-B6E5-4024-9538-EC93007B55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49F4-FF29-40C6-9011-78F6C7DBA9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C647-9583-42EE-B399-4B34BB0708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666-6C73-4CF5-9B96-9E39CB713B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19E-DFB5-4216-BC7B-30E7631EA6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B5D-C2D7-4FA0-8C82-4998C9E10D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8CF-CECE-4EBE-899F-65055CDFBC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A30-758B-4FB5-BF45-51F09CF20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5670-B9DE-4F6D-947F-E37C94BB12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FD7-2113-42ED-8738-83256445F0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D1C-CD91-4BE5-A869-6487663F05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6A1-9F3A-4089-ADE2-5F93853F96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0ED-7B31-4C58-A925-D7D459A4A5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E2E-7E31-4A1E-B4A6-BE42837357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B0B3-DD53-42DA-8953-ED1E625B02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703-466E-4B0C-8EBF-49DD694E33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D0D77-690B-4B27-9C78-F0B0AD8AE5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2941C-6E63-4F1D-A2FB-929DB577C1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FA6CC-4CF3-4FF5-96D6-A517DE532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CB12-AFFF-411B-90AA-7AFE7C4BB3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FB239-07A9-4BAA-95F7-6731B10EC7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CB27F-EFB7-4A2E-8038-F526AF3FC4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DFF81-FC27-42AE-97A9-2D60518AFC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A2461-9F57-49EC-9850-55ECB280E7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7975A-85AC-46F0-96A3-E8526E7807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2E981-8897-4133-B960-BD748DB889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5FAE7-B21E-4354-8AB8-0CB91C9412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BE232-F4CA-4E70-83C8-401D188A12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51A62-8AB9-48FA-BC42-F589C6B25B5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26EBF-6F8E-459E-A248-10F070121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457F-2A6C-4835-9D8D-0137B3D907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82FC7-F47C-437B-89DA-7A7946EA3D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9B98A-F716-4EAB-AAB3-BFE3FD8367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CB50D-A755-49AD-84D6-350C69B7E9E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F027C-185B-426C-B067-CE7F31F83D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9312-414D-41D3-8D3A-65E9C11A48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A815A-1E7C-4B8D-9D03-AA783FD1F3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DF32A-78C2-4641-A877-308B6E5989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F0F36-B77A-4FCB-94B9-89BC178611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E87C7-3590-4B43-8CD3-0250E2EFDE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7F736-8BFA-425B-8136-391BC29D2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3E1E-C041-448A-AD68-C60C06026D7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88EBF-F37B-4C30-A11A-179D9DB7CB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A517-3F53-448E-BE24-35F5206FEC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4B8-A018-4B82-9E18-5092DCD328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44A7-CF11-4812-9736-622EA3BA55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1D5C-E6A9-4F89-AF1B-96341E2205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A3F1-1620-4A23-AE83-6AB081A79D4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CC22-9ABE-403E-AC84-E498A72015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EB7-DEAE-4EA1-B1F6-3647A6251D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35D0-4781-48C6-80E4-BFE301BEEE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2E92-88DA-4226-BEDE-7D438BF03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68AB-9126-4D4B-A1A4-2F46C08A4C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233-B2CA-4A52-86A3-D5CE9D974CA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835-1362-4593-ADA7-24C494ACF4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CBF7-9A02-45AC-8810-5D52A9C0444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35418-7F59-4544-98A6-A3CD61BD34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E5A11-7755-4B4C-AE6F-8A05C41018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B8F74-1663-4EBA-9B51-E1A8201DB1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8176E-47E4-4EE5-B27B-A7C67C375C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D94B1-9E6F-4CAB-BC24-1D3088D655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2FD4C-4572-4182-89C9-922013D8A6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CBF53-EEF2-49DF-A532-8AE06EAA2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FE3A-8928-4FBD-BEB6-71EE9B15BE2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0D9CE-28D3-4558-82C4-492C327B81A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A1F1E8-1AE1-4BFB-ADC2-FE183332E8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F39BE-1F67-469B-A6AC-A6DC3726EDE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AC876E-9BC4-4CA4-9106-B0EC1565A2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2308D-446C-45F6-A07A-950D709E67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D2B7C1-A700-43E4-99EA-121F249238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87426-1634-4226-B62B-7CCA6953BC0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8454D-6ED8-4702-B3FF-EAF8DED4D3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B7829-FC20-47E9-B969-7FE23AA7AD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78617-417A-4FFC-9639-5DB25C193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296B-88C9-4AF6-BEED-ED8FD3CED2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58F2C-B3D3-48C9-8C96-035A7F08DF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2EC05-9FE9-4266-87B0-FD3C8C1585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5EFC9-2EE2-46A1-BEDB-C557D5AD01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3179D-79F0-44D2-8D9A-B8E8E423D09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E760C-7307-48A6-94AA-4B41B7FB2B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912D4-AAE0-43A4-8C17-44548C1F0D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1A2B3-1B74-481A-8169-A417C43B87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30577-EFBC-4CE3-AC29-0D8D5C3309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143C-4F50-48B9-A475-C64531DCF9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6261-D7A8-4EFD-864C-F833976BA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9051-034B-4F9D-8008-2E500E148876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0A45-A027-4550-AD85-E40E15AA4871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0BA8-99AB-4676-967A-B292479ACA34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B68-0AAA-438A-9498-EE3285826B84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WhitebackPPTCover3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2567-7F83-46FF-B8F2-2DCD7399AED9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3BD6-3541-40B3-AB6C-E1B44F0689DB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6DD2-A2E6-466B-A916-ED7479068FF1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D16-22EE-45E3-9304-D96C4209B124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C4D5-B5C7-48EB-A9A3-CF0906A50A61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4A96-473E-43A5-82F3-B6CEB8C06147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B940-9D45-47B9-8322-3C5E08FD011D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9C3C-BDDF-48CB-AB09-A952824A8B17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bc36"/>
                </a:solidFill>
                <a:latin typeface="Arial"/>
              </a:rPr>
              <a:t>Math Process Session</a:t>
            </a:r>
            <a:br>
              <a:rPr sz="4000"/>
            </a:br>
            <a:endParaRPr b="1" lang="en-US" sz="40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376"/>
                </a:solidFill>
                <a:latin typeface="Arial"/>
              </a:rPr>
              <a:t>Developing a Plan to Deliver Professional Development for Common Core Mathematics 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376"/>
                </a:solidFill>
                <a:latin typeface="Arial"/>
              </a:rPr>
              <a:t>November 16, 2011</a:t>
            </a:r>
            <a:endParaRPr b="0" lang="en-US" sz="24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Wrapping Up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 rot="20986200">
            <a:off x="1571400" y="1768320"/>
            <a:ext cx="5651280" cy="361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2298960" y="320040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–out-the-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ontact Information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Dianne Meigg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dianne.meiggs@dpi.nc.gov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252-340-0113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Beth Edward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Elizabeth.edwards@dpi.nc.gov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252-916-6842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Welcom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490" name="Content Placeholder 3" descr=""/>
          <p:cNvPicPr/>
          <p:nvPr/>
        </p:nvPicPr>
        <p:blipFill>
          <a:blip r:embed="rId1"/>
          <a:stretch/>
        </p:blipFill>
        <p:spPr>
          <a:xfrm>
            <a:off x="517680" y="1365120"/>
            <a:ext cx="7808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Purpos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ollaborate with colleagues to apply content knowledge in order to develop tools, lessons, units, activities, processes, and templates to use in professional development or content-area support for teacher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Outcomes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ollaborate with colleagues to apply content knowledge in order to develop tools, lessons, units, activities, processes, and templates to use in professional development or content-area support for teacher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ost at least one tool, activity, process, or template on the http://region1rttt.wikispaces.com/ for use throughout our region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Module Release Updates</a:t>
            </a:r>
            <a:br>
              <a:rPr sz="3800"/>
            </a:b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http://center.ncsu.edu/nc 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496" name="Content Placeholder 3" descr=""/>
          <p:cNvPicPr/>
          <p:nvPr/>
        </p:nvPicPr>
        <p:blipFill>
          <a:blip r:embed="rId1"/>
          <a:stretch/>
        </p:blipFill>
        <p:spPr>
          <a:xfrm>
            <a:off x="669960" y="1596960"/>
            <a:ext cx="78087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LEA Work Session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498" name="Content Placeholder 3" descr=""/>
          <p:cNvPicPr/>
          <p:nvPr/>
        </p:nvPicPr>
        <p:blipFill>
          <a:blip r:embed="rId1"/>
          <a:stretch/>
        </p:blipFill>
        <p:spPr>
          <a:xfrm>
            <a:off x="438120" y="1432080"/>
            <a:ext cx="76518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Break Out Work Sessions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152280" y="4267080"/>
            <a:ext cx="899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egion1rttt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orestandard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12.wa.us/smart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accss.ncdpi.wikispaces.net/High+School+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dpi.state.nc.us/acr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ages.uoregon.edu/kscalise/taxonomy/taxonomy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088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rocess Support Math: Menu of Option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Identify a leader/facilitator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hoose a task from the Menu 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Visit electronic resources on menu for suppor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ost your work on the Region 1 wiki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bc36"/>
                </a:solidFill>
                <a:latin typeface="Arial"/>
              </a:rPr>
              <a:t>Spring Support</a:t>
            </a:r>
            <a:endParaRPr b="1" lang="en-US" sz="40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376"/>
                </a:solidFill>
                <a:latin typeface="Arial"/>
              </a:rPr>
              <a:t>Math Content and Process Support 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376"/>
                </a:solidFill>
                <a:latin typeface="Arial"/>
              </a:rPr>
              <a:t>May 8-9, 2011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questions.jpg"/>
          <p:cNvPicPr/>
          <p:nvPr/>
        </p:nvPicPr>
        <p:blipFill>
          <a:blip r:embed="rId1"/>
          <a:stretch/>
        </p:blipFill>
        <p:spPr>
          <a:xfrm>
            <a:off x="990720" y="685800"/>
            <a:ext cx="6949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1:08:27Z</dcterms:created>
  <dc:creator>Shauna Queen</dc:creator>
  <dc:description/>
  <dc:language>en-US</dc:language>
  <cp:lastModifiedBy>eedwards</cp:lastModifiedBy>
  <dcterms:modified xsi:type="dcterms:W3CDTF">2011-11-16T16:36:09Z</dcterms:modified>
  <cp:revision>125</cp:revision>
  <dc:subject/>
  <dc:title>PowerPoint Presentation</dc:title>
</cp:coreProperties>
</file>